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017-15EA-4AC5-8A8A-F614C251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64E-DA6A-49E8-ABB6-091DF462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695-74B7-4FFD-A98A-96198632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7CF-9E86-47F4-BCFE-44BD5C15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B8E-CC96-4320-B74F-7FF0FDDD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FDD-A38E-4AB2-814B-94CDCDF3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F34-8F70-4D8A-ABEA-56D58B07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474-BC70-42D7-93A2-7B80B475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A0E-EC00-4F2E-A542-CA2234EE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40E-5559-4FA3-B8FA-3CF9F8E9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748-0600-4992-BA98-5C438736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35D-C3FD-49F7-B34C-15FEF579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4161-3B40-4569-81C8-5819A615F619}" type="slidenum"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-x4VcmHfxU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The Tsar’s Govern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http://upload.wikimedia.org/wikipedia/commons/5/59/Estandarte_Imperial_de_Rusia.png"/>
          <p:cNvPicPr/>
          <p:nvPr/>
        </p:nvPicPr>
        <p:blipFill>
          <a:blip r:embed="rId1"/>
          <a:stretch/>
        </p:blipFill>
        <p:spPr>
          <a:xfrm>
            <a:off x="900000" y="1557360"/>
            <a:ext cx="7143840" cy="4772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766800" y="2254320"/>
            <a:ext cx="1760400" cy="4343400"/>
          </a:xfrm>
          <a:prstGeom prst="rect">
            <a:avLst/>
          </a:prstGeom>
          <a:solidFill>
            <a:srgbClr val="948a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747960" y="2254320"/>
            <a:ext cx="1862280" cy="4414680"/>
          </a:xfrm>
          <a:prstGeom prst="rect">
            <a:avLst/>
          </a:prstGeom>
          <a:solidFill>
            <a:srgbClr val="948a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742080" y="2254320"/>
            <a:ext cx="1862280" cy="4414680"/>
          </a:xfrm>
          <a:prstGeom prst="rect">
            <a:avLst/>
          </a:prstGeom>
          <a:solidFill>
            <a:srgbClr val="948a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866880" y="476280"/>
            <a:ext cx="7637400" cy="171288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708360" y="990720"/>
            <a:ext cx="2090880" cy="10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Tsar Nich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uto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66880" y="2425680"/>
            <a:ext cx="1522440" cy="31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Bureau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overnment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ffi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sp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Och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849840" y="2425680"/>
            <a:ext cx="1660320" cy="33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eamroll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ble Offi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asant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orly equ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der tr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877080" y="2349360"/>
            <a:ext cx="158256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Russian Orthodox Ch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sar appointed by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u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secute other religions (J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395280" y="404640"/>
            <a:ext cx="1584360" cy="916920"/>
          </a:xfrm>
          <a:prstGeom prst="rect">
            <a:avLst/>
          </a:prstGeom>
          <a:noFill/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py this diagram into your j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http://www.magicalmaths.org/wp-content/uploads/2012/11/conclusion-introduction-starter-plenary1.jpg"/>
          <p:cNvPicPr/>
          <p:nvPr/>
        </p:nvPicPr>
        <p:blipFill>
          <a:blip r:embed="rId1"/>
          <a:stretch/>
        </p:blipFill>
        <p:spPr>
          <a:xfrm rot="1093800">
            <a:off x="1784520" y="76320"/>
            <a:ext cx="601560" cy="691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Explain the meaning of the word “Autocra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According to the sources on your source sheet was Nicholas II’s character suited to the role of Tsar? Back up your answer by selecting 2 key points from each 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What role did the bureaucracy play in governing Russi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What key problem did the Russian army hav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How important was the Church is supporting Tsar Nicholas’ reign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3" descr="http://www.clker.com/cliparts/K/0/N/F/h/W/task-md.png"/>
          <p:cNvPicPr/>
          <p:nvPr/>
        </p:nvPicPr>
        <p:blipFill>
          <a:blip r:embed="rId1"/>
          <a:stretch/>
        </p:blipFill>
        <p:spPr>
          <a:xfrm rot="1269600">
            <a:off x="5678640" y="135000"/>
            <a:ext cx="960120" cy="112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encrypted-tbn1.gstatic.com/images?q=tbn:ANd9GcQcv8WUkhm7pMq4IL3JuoGWuvfCpezukDjXPJ7ZZfkGRbVOES_y"/>
          <p:cNvPicPr/>
          <p:nvPr/>
        </p:nvPicPr>
        <p:blipFill>
          <a:blip r:embed="rId1"/>
          <a:srcRect l="0" t="23077" r="0" b="22211"/>
          <a:stretch/>
        </p:blipFill>
        <p:spPr>
          <a:xfrm>
            <a:off x="3492360" y="260280"/>
            <a:ext cx="3167280" cy="1773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324000" y="54936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omic Sans MS"/>
              </a:rPr>
              <a:t>Learning I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By the end of this lesson you should be able describe the government under the Tsar and why it was important to keeping the Tsar in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1280" y="378936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omic Sans MS"/>
              </a:rPr>
              <a:t>Success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Participate in class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Answer questions in your jotter in full sent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photos1.blogger.com/blogger/3343/2251/1600/target%5b1%5d.jpg"/>
          <p:cNvPicPr/>
          <p:nvPr/>
        </p:nvPicPr>
        <p:blipFill>
          <a:blip r:embed="rId2"/>
          <a:stretch/>
        </p:blipFill>
        <p:spPr>
          <a:xfrm rot="609000">
            <a:off x="3492000" y="3357360"/>
            <a:ext cx="1943280" cy="1417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611280" y="836640"/>
            <a:ext cx="266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sar Nicholas II was an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Auto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is meant he had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complete control </a:t>
            </a: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over how Russia was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Tsarist Russia"/>
          <p:cNvPicPr/>
          <p:nvPr/>
        </p:nvPicPr>
        <p:blipFill>
          <a:blip r:embed="rId1"/>
          <a:stretch/>
        </p:blipFill>
        <p:spPr>
          <a:xfrm>
            <a:off x="3851280" y="692280"/>
            <a:ext cx="4689360" cy="331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Natalie1990\AppData\Local\Microsoft\Windows\Temporary Internet Files\Content.IE5\OZ2DWKF8\MC900431548[1].png"/>
          <p:cNvPicPr/>
          <p:nvPr/>
        </p:nvPicPr>
        <p:blipFill>
          <a:blip r:embed="rId2"/>
          <a:stretch/>
        </p:blipFill>
        <p:spPr>
          <a:xfrm>
            <a:off x="971640" y="4221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3780000" y="5013360"/>
            <a:ext cx="4752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omic Sans MS"/>
              </a:rPr>
              <a:t>Is this how our country is run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youtube.com/watch?v=P-x4VcmHfx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2 minutes 10 second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50920" y="11736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However Nicholas was not a natural leader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Sourc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c000"/>
                </a:solidFill>
                <a:latin typeface="Comic Sans MS"/>
              </a:rPr>
              <a:t>What is going to happen to me, to all Russia? I am not ready to be the Tsar. I never wanted to become one. I know nothing of the business of ruling. I have no idea even how to talk to min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Nicholas II, October 1894 on death of his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Sourc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c000"/>
                </a:solidFill>
                <a:latin typeface="Comic Sans MS"/>
              </a:rPr>
              <a:t>The gentle but uneducated Emperor...is weak on every point except his own aut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Sir Alexander Nicholson, British Ambassador to </a:t>
            </a: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c000"/>
                </a:solidFill>
                <a:latin typeface="Comic Sans MS"/>
              </a:rPr>
              <a:t>Russia, 19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250920" y="549360"/>
            <a:ext cx="46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o help him govern his country, Nicholas relied on his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bureaucracy</a:t>
            </a: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, the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army</a:t>
            </a: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 and the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Russian Orthodox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se three became known as the </a:t>
            </a:r>
            <a:r>
              <a:rPr b="0" lang="en-GB" sz="2400" spc="-1" strike="noStrike">
                <a:solidFill>
                  <a:srgbClr val="7030a0"/>
                </a:solidFill>
                <a:latin typeface="Comic Sans MS"/>
              </a:rPr>
              <a:t>“pillars” </a:t>
            </a: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of the Tsarist government because without their support the Tsar would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studentsforliberty.org/wp-content/uploads/2012/10/bureaucrat_2.jpeg"/>
          <p:cNvPicPr/>
          <p:nvPr/>
        </p:nvPicPr>
        <p:blipFill>
          <a:blip r:embed="rId1"/>
          <a:stretch/>
        </p:blipFill>
        <p:spPr>
          <a:xfrm>
            <a:off x="5867280" y="549360"/>
            <a:ext cx="2749680" cy="299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s://encrypted-tbn3.gstatic.com/images?q=tbn:ANd9GcSzxnKfg8x9EsfpeqvedFuHYph3FU4mC077C1JJoYwxVMhiwX9W"/>
          <p:cNvPicPr/>
          <p:nvPr/>
        </p:nvPicPr>
        <p:blipFill>
          <a:blip r:embed="rId2"/>
          <a:stretch/>
        </p:blipFill>
        <p:spPr>
          <a:xfrm>
            <a:off x="5580000" y="407664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people.ucalgary.ca/~ocf/images/cross.jpg"/>
          <p:cNvPicPr/>
          <p:nvPr/>
        </p:nvPicPr>
        <p:blipFill>
          <a:blip r:embed="rId3"/>
          <a:stretch/>
        </p:blipFill>
        <p:spPr>
          <a:xfrm>
            <a:off x="1547640" y="4149720"/>
            <a:ext cx="1440000" cy="2198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Bureauc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Consisted of thousands of civil servants who ran the count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It was organised like an army into 14 ranks. At the top were Government ministers and at the bottom the minor officials like custom inspector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Civil servants were often underpaid so accept bribes to help boost their inc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sar did not tolerate anyone questioning his authority so he created a secret police, the Ochra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Ochrana saw that newspapers were censored, spied on political groups and had the power to punish and ex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2" descr="http://studentsforliberty.org/wp-content/uploads/2012/10/bureaucrat_2.jpeg"/>
          <p:cNvPicPr/>
          <p:nvPr/>
        </p:nvPicPr>
        <p:blipFill>
          <a:blip r:embed="rId1"/>
          <a:stretch/>
        </p:blipFill>
        <p:spPr>
          <a:xfrm>
            <a:off x="539640" y="0"/>
            <a:ext cx="1871640" cy="203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64a2"/>
                </a:solidFill>
                <a:latin typeface="Comic Sans MS"/>
              </a:rPr>
              <a:t>Arm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21333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Russian army had the benefit of having a huge population to stock it with sold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It was known as the Russian “Steamroll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high ranking officers were from the nobility while the ordinary soldiers were from the peasant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https://encrypted-tbn2.gstatic.com/images?q=tbn:ANd9GcRX0JBsMnAwYcGlbPkBb1AcReZ__6K3wERd2T2e4EIBNJEbuL1m"/>
          <p:cNvPicPr/>
          <p:nvPr/>
        </p:nvPicPr>
        <p:blipFill>
          <a:blip r:embed="rId1"/>
          <a:stretch/>
        </p:blipFill>
        <p:spPr>
          <a:xfrm>
            <a:off x="6372360" y="4700520"/>
            <a:ext cx="2771640" cy="196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s://encrypted-tbn3.gstatic.com/images?q=tbn:ANd9GcSzxnKfg8x9EsfpeqvedFuHYph3FU4mC077C1JJoYwxVMhiwX9W"/>
          <p:cNvPicPr/>
          <p:nvPr/>
        </p:nvPicPr>
        <p:blipFill>
          <a:blip r:embed="rId2"/>
          <a:stretch/>
        </p:blipFill>
        <p:spPr>
          <a:xfrm>
            <a:off x="684360" y="260280"/>
            <a:ext cx="2016000" cy="1614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95280" y="4292640"/>
            <a:ext cx="53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army was poorly trained and badly equipped so it could help keep the Tsar in power by brute force but would struggle against European ar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64a2"/>
                </a:solidFill>
                <a:latin typeface="Comic Sans MS"/>
              </a:rPr>
              <a:t>Russian Orthodox Chur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77336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Orthodox Church was the official Church of the Russian Emp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Most Russians were very devout and would attend church regul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priests told the people that the Tsar was divinely appointed to be their Ruler and most people believed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The Church was very important in maintaining the loyalty of the people to the Ts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omic Sans MS"/>
              </a:rPr>
              <a:t>Nicholas pursued a policy of Russification which tried to unite the population under the church. This meant persecuting people of different faith like the Jews who suffered from pogrom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6" descr="http://people.ucalgary.ca/~ocf/images/cross.jpg"/>
          <p:cNvPicPr/>
          <p:nvPr/>
        </p:nvPicPr>
        <p:blipFill>
          <a:blip r:embed="rId1"/>
          <a:stretch/>
        </p:blipFill>
        <p:spPr>
          <a:xfrm>
            <a:off x="250920" y="189000"/>
            <a:ext cx="874440" cy="1334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1T16:13:59Z</dcterms:created>
  <dc:creator>Natalie1990</dc:creator>
  <dc:description/>
  <dc:language>en-US</dc:language>
  <cp:lastModifiedBy>sthcantleyn1</cp:lastModifiedBy>
  <dcterms:modified xsi:type="dcterms:W3CDTF">2013-08-14T07:51:59Z</dcterms:modified>
  <cp:revision>15</cp:revision>
  <dc:subject/>
  <dc:title>The Tsar’s Government</dc:title>
</cp:coreProperties>
</file>